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F1E8-7B40-45D5-B713-04345EBF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55EB-E55D-413F-9A8E-20B77C28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EFCD-CD7F-4292-B08A-83964B26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E851-9154-4634-A870-18BAD050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2C48-02D7-419A-9E6C-53539A83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92D8-AA4C-4EBD-B8A1-CA61B15E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C247-9958-4C50-83A3-A60C2F10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5531-A43B-4299-94A6-DC08E197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9B09-E389-4380-9B8B-27AEA473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515D-A198-43A8-A1E6-9C21679C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6F0F-1510-4A21-99BA-7762C474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6ACF-EB73-4EA6-B622-77AFA182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6A62-4358-4405-8312-908D92FE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0224-C875-4D2C-AEE7-BDF30DC2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120E-0594-415F-9ACA-E47F6F48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2C05-2A1A-4DC1-980B-F7ABC265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A1C0-DADE-4D72-BD28-230EEF01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6563-7549-40D6-BCC3-CEE2E24D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0358-01C9-4947-9352-3798F2E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2B49-6094-4C20-9B57-F96F050F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FB86-05A9-4B52-8152-F61CC647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63E8-813A-489A-8961-C44F296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BADC-F6A6-41CE-BEF5-6DB92E2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3BBD-D511-495F-AEB5-552191A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E791-DE53-420A-B9D3-93EB6BF30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FFA4-04F7-4151-A754-81711667A1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Writing Algebraic Express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457200" y="3657600"/>
            <a:ext cx="82296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able to write an algebraic expression for a word phrase or write  a word phrase for an expre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Not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ication expressions should be written in side-by-side form, with the number always in front of the varia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2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1.5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0.4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2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Not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ision expressions should be written using the fraction bar instead of the traditional division sig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Object 6"/>
          <p:cNvGraphicFramePr/>
          <p:nvPr/>
        </p:nvGraphicFramePr>
        <p:xfrm>
          <a:off x="1447920" y="4572000"/>
          <a:ext cx="81108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572000"/>
                    <a:ext cx="811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5"/>
          <p:cNvGraphicFramePr/>
          <p:nvPr/>
        </p:nvGraphicFramePr>
        <p:xfrm>
          <a:off x="2971800" y="4648320"/>
          <a:ext cx="75420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648320"/>
                    <a:ext cx="754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4"/>
          <p:cNvGraphicFramePr/>
          <p:nvPr/>
        </p:nvGraphicFramePr>
        <p:xfrm>
          <a:off x="4343400" y="4724280"/>
          <a:ext cx="93024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724280"/>
                    <a:ext cx="930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919800" y="923400"/>
            <a:ext cx="127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920520" y="2241360"/>
            <a:ext cx="146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ddition phras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more than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um of 10 and a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ncreased by 4.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91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ubtraction phras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numb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ecreased by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10 and a numb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less than a numb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z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ultiplication phras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duct of 3 and a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ice the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2 times a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67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vision phras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otient of 25 and a numb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ivided by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5 divid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67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nverting  f  feet into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 car travels at 75 mph for h hou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area of a rectangle with a lengt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of 10 and a width of 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67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nverting i inches into f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cost for tickets if you purchase 5 adult tickets at x dollars e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cost for tickets if you purchase 3 children’s tickets at y dollars e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67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total cost for 5 adult tickets and 3 children’s tickets using the dollar amounts from the previous two problems (problems e and f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57200" y="304920"/>
            <a:ext cx="8153280" cy="5943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valuate each algebraic expression for the given value of the vari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   7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+ 4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=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.)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8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22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=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.)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12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+   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 7 an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=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.)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+ 3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= 5 an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=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4901400" y="2056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130000" y="3123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034760" y="4266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2221200" y="4191120"/>
            <a:ext cx="35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6653880" y="5486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533520" y="533520"/>
            <a:ext cx="5181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though they are closely related, a Great Dane weighs about 40 times as much as a Chihuahu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838080" y="4952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solving real-world problems, you will need to translate words, or verbal expressions, into algebraic expres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5257800" y="0"/>
            <a:ext cx="3695760" cy="27874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380880" y="2971800"/>
            <a:ext cx="6400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 expression for the weight of the Great Dane could be 40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wher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s the weight of the Chihuah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Not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 order to translate a word phrase into an algebraic expression, we must first know some key word phrases for the basic operation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On the back of your notes: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371600" y="1371600"/>
          <a:ext cx="6553080" cy="5105520"/>
        </p:xfrm>
        <a:graphic>
          <a:graphicData uri="http://schemas.openxmlformats.org/drawingml/2006/table">
            <a:tbl>
              <a:tblPr/>
              <a:tblGrid>
                <a:gridCol w="3186000"/>
                <a:gridCol w="3367080"/>
              </a:tblGrid>
              <a:tr h="25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d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ubtr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ultipl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ivis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Addition Phrases: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th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rease 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ater th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Subtraction Phrases: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reased 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erence betwe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ke Awa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tra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 than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tract from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Multiplication Phrases: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ice or dou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Division Phrases: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oti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vided 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lit equal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8:58:29Z</dcterms:created>
  <dc:creator>HPISD</dc:creator>
  <dc:description/>
  <dc:language>en-US</dc:language>
  <cp:lastModifiedBy>cti</cp:lastModifiedBy>
  <dcterms:modified xsi:type="dcterms:W3CDTF">2014-10-25T04:12:10Z</dcterms:modified>
  <cp:revision>10</cp:revision>
  <dc:subject/>
  <dc:title>Writing Algebraic Expressions</dc:title>
</cp:coreProperties>
</file>